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wmf" ContentType="image/x-wmf"/>
  <Override PartName="/ppt/media/image7.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D43869-CBFD-4A53-8DC1-278B2CF0B1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CB707D-98C0-4CAB-8B09-998AB6E48A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E8CDC5-EE1D-4481-AC7F-9DB028DDE1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C7161A-205D-4C6A-9230-1BACA175AA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F88D00-3FC0-4741-BC50-771A537029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B7C282-D70B-48EC-8FEC-2045A0BB06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DB5CF0-79EC-4B74-9AEE-106DB0AA86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4E4C38-FEE2-4980-9DB7-2D7F0FE2F8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6F2FC3-19E8-43C9-848A-C383F6F100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B52E91-8424-4B10-91E2-B4E7AEE0D2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D6CB67-A10B-4A3C-9DDB-B8000CBE65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7BA7C6-F1B6-410F-9371-858CF53384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D85A62-6927-4F8B-8770-D7F9A6963F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5E6B30-543F-4364-878B-3B522E6CAA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10FAA0-94B5-4D11-B3E3-2E3692E31D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577BF9-7649-43D4-BED5-2191698615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CFE22D-DECE-4029-A5FF-4E4F39F00A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0F50D58-131D-4461-9A05-43655D659B5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9B4B9A-8C7C-47CF-B3BF-08FADE709F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3C30A9-15EB-403B-B7EE-4C156E01E9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BBAFA8-615B-4C6A-AE30-62545EA59C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0F966A-8EBC-404E-B896-1062D73B12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A0106B-5B6C-49CD-9AC4-834273582C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EE9084-6D1B-44B2-9C8A-522C9A4010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1186F9-0B57-414B-8835-BECA6FD347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AD5DA5-02E7-45AC-925D-2C81766404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E0D082-59B4-44D4-BEA0-9C18D2722A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B07F52-97E5-4B10-9DBA-9D26F99646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3B38905-193C-4376-8438-0199F628A58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9D7CBAC-BE1F-4898-8878-477C421D3F9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B21C905-7685-42A7-A3EB-8B532F3933E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EDE4E4-A290-4342-800C-8D5CF8BD04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975EC1-8999-4293-A46A-BCE6C81A5E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31118F-7650-422F-A9F5-D52A9AC8C2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626A71-17EC-45C1-8818-B65D235C7D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97EFE1-B141-4351-A399-D79B0AE0E6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588664-6972-4042-9647-54BBC91DD0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06C83C-A82A-4893-B366-2E4D63336E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B70E26-AF02-44F5-B3CC-E0C70154E5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261E72-8E3B-4E5A-962C-D5ACA67EB8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56147B-EFB2-4ED3-9033-EA9E2648D5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EAC81C2-F1C3-4ED0-80CA-187A445B99F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1CB3D6B-09FC-412F-9C6A-EC6E1F51141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F98CD43-A21F-46C6-802E-96B4556D093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32D4A7-ED41-420F-8514-4C7B83EDC5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069C61A-2E6B-43F3-BCD0-51C786AEE6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20564B-396D-45AF-9A86-DB95EF9C9E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FF46B40-EAAC-48DA-A329-18A7A3CF5C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9383003-7949-402D-9CCE-3A75D9085F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F742F54-2BF5-441C-A123-E6BBDBB490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E00E28-90B9-41FE-9B3C-7CA69FF2C0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31A218-9515-4112-9540-0854CE4096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233F50-7BD7-49E5-AF91-F52FE07960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5F94E97-6580-4DA8-9464-B7B618BE1C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3F7E65A-841D-4490-B22A-609D2D0E2A1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87A038-6023-4BC8-9E7A-01D9E3E966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8F350FE-5C74-467A-B2A2-E7B72B9BC4A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3315FDB-66E6-4900-A11B-232CEAF5BB3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B7321C8-DB24-44B4-84AB-3F68CE39FB8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B1B615E-F4D7-4414-812A-65F2DB2913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852CB22-FDFB-4ACB-8B15-BECB48B1A86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13B15AE-FCEF-4B54-B4DB-10847C4047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A0B2585-F9A7-47BE-B154-C268B8CC94F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4EF0EC-B49D-4367-9C61-670286D874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E63582-1DE1-4772-A956-6B7A7B5937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CD0DBA-5919-4657-8532-7DC92BC040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E3E13-BEE9-4C44-8D99-2333DC931B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5EA901A-52C7-49B9-899B-64B75F3867D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A8A3DC7-83C8-4D1B-9628-44D8ED39B32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0B2AE07-6FE1-416C-96EB-1E657695D14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6C195-3DC6-4862-A678-7D89AC8717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C32DF-5FD2-4631-BECA-8839576560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Arial"/>
              </a:rPr>
              <a:t>&lt;date/time&gt;</a:t>
            </a:r>
            <a:endParaRPr b="0" lang="en-US" sz="1000" spc="-1" strike="noStrike">
              <a:solidFill>
                <a:srgbClr val="000000"/>
              </a:solidFill>
              <a:latin typeface="Arial"/>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AA33C-73D2-4458-AC48-7AF4582DE9E2}" type="slidenum">
              <a:rPr b="0" lang="en-US" sz="1000" spc="-1" strike="noStrike">
                <a:solidFill>
                  <a:srgbClr val="9b9a98"/>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Freeform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Arial"/>
              </a:rPr>
              <a:t>&lt;date/time&gt;</a:t>
            </a:r>
            <a:endParaRPr b="0" lang="en-US" sz="1000" spc="-1" strike="noStrike">
              <a:solidFill>
                <a:srgbClr val="000000"/>
              </a:solidFill>
              <a:latin typeface="Arial"/>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15E85-92C6-41DB-80D8-3BBB78F3A8D4}" type="slidenum">
              <a:rPr b="0" lang="en-US" sz="1000" spc="-1" strike="noStrike">
                <a:solidFill>
                  <a:srgbClr val="9b9a98"/>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Freeform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Arial"/>
              </a:rPr>
              <a:t>&lt;date/time&gt;</a:t>
            </a:r>
            <a:endParaRPr b="0" lang="en-US" sz="1000" spc="-1" strike="noStrike">
              <a:solidFill>
                <a:srgbClr val="000000"/>
              </a:solidFill>
              <a:latin typeface="Arial"/>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302FA-F0FB-4844-ACD4-1CA6ABE91339}" type="slidenum">
              <a:rPr b="0" lang="en-US" sz="1000" spc="-1" strike="noStrike">
                <a:solidFill>
                  <a:srgbClr val="9b9a98"/>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Arial"/>
              </a:rPr>
              <a:t>&lt;date/time&gt;</a:t>
            </a:r>
            <a:endParaRPr b="0" lang="en-US" sz="1000" spc="-1" strike="noStrike">
              <a:solidFill>
                <a:srgbClr val="000000"/>
              </a:solidFill>
              <a:latin typeface="Arial"/>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B4FDA-A1A8-4477-AB22-7CCAF535A6A8}" type="slidenum">
              <a:rPr b="0" lang="en-US" sz="1000" spc="-1" strike="noStrike">
                <a:solidFill>
                  <a:srgbClr val="9b9a98"/>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Arial"/>
              </a:rPr>
              <a:t>&lt;date/time&gt;</a:t>
            </a:r>
            <a:endParaRPr b="0" lang="en-US" sz="1000" spc="-1" strike="noStrike">
              <a:solidFill>
                <a:srgbClr val="000000"/>
              </a:solidFill>
              <a:latin typeface="Arial"/>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DF5A6-9BDA-480C-AA73-88CCD1F343AF}" type="slidenum">
              <a:rPr b="0" lang="en-US" sz="1000" spc="-1" strike="noStrike">
                <a:solidFill>
                  <a:srgbClr val="9b9a98"/>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Arial"/>
              </a:rPr>
              <a:t>&lt;date/time&gt;</a:t>
            </a:r>
            <a:endParaRPr b="0" lang="en-US" sz="1000" spc="-1" strike="noStrike">
              <a:solidFill>
                <a:srgbClr val="000000"/>
              </a:solidFill>
              <a:latin typeface="Arial"/>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7E267-657B-4ACA-82A8-B494535E614A}" type="slidenum">
              <a:rPr b="0" lang="en-US" sz="1000" spc="-1" strike="noStrike">
                <a:solidFill>
                  <a:srgbClr val="9b9a98"/>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TextBox 1"/>
          <p:cNvSpPr/>
          <p:nvPr/>
        </p:nvSpPr>
        <p:spPr>
          <a:xfrm>
            <a:off x="1676520" y="990720"/>
            <a:ext cx="5790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df56"/>
                </a:solidFill>
                <a:latin typeface="Arial"/>
              </a:rPr>
              <a:t>College Planning Project Reflection</a:t>
            </a:r>
            <a:endParaRPr b="0" lang="en-US" sz="2800" spc="-1" strike="noStrike">
              <a:solidFill>
                <a:srgbClr val="ffffff"/>
              </a:solidFill>
              <a:latin typeface="Arial"/>
            </a:endParaRPr>
          </a:p>
        </p:txBody>
      </p:sp>
      <p:pic>
        <p:nvPicPr>
          <p:cNvPr id="255" name="Picture 2" descr="http://humanities.osu.edu/departments/images/u_hall_autumn.jpg"/>
          <p:cNvPicPr/>
          <p:nvPr/>
        </p:nvPicPr>
        <p:blipFill>
          <a:blip r:embed="rId1"/>
          <a:srcRect l="22798" t="4163" r="25202" b="10413"/>
          <a:stretch/>
        </p:blipFill>
        <p:spPr>
          <a:xfrm>
            <a:off x="3314880" y="2666880"/>
            <a:ext cx="2514600" cy="3171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TextBox 1"/>
          <p:cNvSpPr/>
          <p:nvPr/>
        </p:nvSpPr>
        <p:spPr>
          <a:xfrm>
            <a:off x="5562720" y="838080"/>
            <a:ext cx="25146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7df56"/>
                </a:solidFill>
                <a:latin typeface="Arial"/>
              </a:rPr>
              <a:t>Mathematics  </a:t>
            </a:r>
            <a:endParaRPr b="0" lang="en-US" sz="3200" spc="-1" strike="noStrike">
              <a:solidFill>
                <a:srgbClr val="ffffff"/>
              </a:solidFill>
              <a:latin typeface="Arial"/>
            </a:endParaRPr>
          </a:p>
        </p:txBody>
      </p:sp>
      <p:sp>
        <p:nvSpPr>
          <p:cNvPr id="257" name="TextBox 2"/>
          <p:cNvSpPr/>
          <p:nvPr/>
        </p:nvSpPr>
        <p:spPr>
          <a:xfrm>
            <a:off x="6019920" y="1981080"/>
            <a:ext cx="167616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learned in Excel how to add the formulas up with SUM in Excel and make every thing  fit and give the total and see how much I’ve spent and how much to spend for college.</a:t>
            </a:r>
            <a:endParaRPr b="0" lang="en-US" sz="1800" spc="-1" strike="noStrike">
              <a:solidFill>
                <a:srgbClr val="ffffff"/>
              </a:solidFill>
              <a:latin typeface="Arial"/>
            </a:endParaRPr>
          </a:p>
        </p:txBody>
      </p:sp>
      <p:pic>
        <p:nvPicPr>
          <p:cNvPr id="258" name="Picture 2" descr="http://www.nassaulibrary.org/hewlett/math0011.gif"/>
          <p:cNvPicPr/>
          <p:nvPr/>
        </p:nvPicPr>
        <p:blipFill>
          <a:blip r:embed="rId1"/>
          <a:stretch/>
        </p:blipFill>
        <p:spPr>
          <a:xfrm>
            <a:off x="1066680" y="1371600"/>
            <a:ext cx="3505320" cy="294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TextBox 1"/>
          <p:cNvSpPr/>
          <p:nvPr/>
        </p:nvSpPr>
        <p:spPr>
          <a:xfrm>
            <a:off x="3581280" y="762120"/>
            <a:ext cx="1981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df56"/>
                </a:solidFill>
                <a:latin typeface="Arial"/>
              </a:rPr>
              <a:t>Technology</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260" name="TextBox 2"/>
          <p:cNvSpPr/>
          <p:nvPr/>
        </p:nvSpPr>
        <p:spPr>
          <a:xfrm>
            <a:off x="2209680" y="1600200"/>
            <a:ext cx="47246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king Excel fit for my college planning so that I could  have a grade. The technology skills that I learned where making words in it and adding up all the formulas to make the total. But when I had troubles I would apply my knowledge and remembered how to make  the formulas fit.</a:t>
            </a:r>
            <a:endParaRPr b="0" lang="en-US" sz="1800" spc="-1" strike="noStrike">
              <a:solidFill>
                <a:srgbClr val="ffffff"/>
              </a:solidFill>
              <a:latin typeface="Arial"/>
            </a:endParaRPr>
          </a:p>
        </p:txBody>
      </p:sp>
      <p:pic>
        <p:nvPicPr>
          <p:cNvPr id="261" name="Picture 2" descr="http://www.gtchs.org/Departments/Departments%20Page/Technology.jpg"/>
          <p:cNvPicPr/>
          <p:nvPr/>
        </p:nvPicPr>
        <p:blipFill>
          <a:blip r:embed="rId1"/>
          <a:srcRect l="0" t="0" r="1887" b="-1027"/>
          <a:stretch/>
        </p:blipFill>
        <p:spPr>
          <a:xfrm>
            <a:off x="3079800" y="3886200"/>
            <a:ext cx="2984400" cy="2819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Picture 6" descr="C:\Documents and Settings\Twlab\Local Settings\Temporary Internet Files\Content.IE5\PA3E1U01\MPj04423100000[1].jpg"/>
          <p:cNvPicPr/>
          <p:nvPr/>
        </p:nvPicPr>
        <p:blipFill>
          <a:blip r:embed="rId1"/>
          <a:stretch/>
        </p:blipFill>
        <p:spPr>
          <a:xfrm>
            <a:off x="4572000" y="0"/>
            <a:ext cx="4572000" cy="3048120"/>
          </a:xfrm>
          <a:prstGeom prst="rect">
            <a:avLst/>
          </a:prstGeom>
          <a:ln w="0">
            <a:noFill/>
          </a:ln>
        </p:spPr>
      </p:pic>
      <p:pic>
        <p:nvPicPr>
          <p:cNvPr id="263" name="Picture 3" descr=""/>
          <p:cNvPicPr/>
          <p:nvPr/>
        </p:nvPicPr>
        <p:blipFill>
          <a:blip r:embed="rId2"/>
          <a:stretch/>
        </p:blipFill>
        <p:spPr>
          <a:xfrm>
            <a:off x="0" y="0"/>
            <a:ext cx="4572000" cy="3049560"/>
          </a:xfrm>
          <a:prstGeom prst="rect">
            <a:avLst/>
          </a:prstGeom>
          <a:ln w="0">
            <a:noFill/>
          </a:ln>
        </p:spPr>
      </p:pic>
      <p:sp>
        <p:nvSpPr>
          <p:cNvPr id="264" name="TextBox 1"/>
          <p:cNvSpPr/>
          <p:nvPr/>
        </p:nvSpPr>
        <p:spPr>
          <a:xfrm>
            <a:off x="2895480" y="3657600"/>
            <a:ext cx="3276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df56"/>
                </a:solidFill>
                <a:latin typeface="Arial"/>
              </a:rPr>
              <a:t>Affective Development  </a:t>
            </a:r>
            <a:endParaRPr b="0" lang="en-US" sz="2400" spc="-1" strike="noStrike">
              <a:solidFill>
                <a:srgbClr val="ffffff"/>
              </a:solidFill>
              <a:latin typeface="Arial"/>
            </a:endParaRPr>
          </a:p>
        </p:txBody>
      </p:sp>
      <p:sp>
        <p:nvSpPr>
          <p:cNvPr id="265" name="TextBox 2"/>
          <p:cNvSpPr/>
          <p:nvPr/>
        </p:nvSpPr>
        <p:spPr>
          <a:xfrm>
            <a:off x="3124080" y="4826160"/>
            <a:ext cx="29718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has made my knowledge  of self go up because I learned that I'm pretty good in choosing stuff that I need even though I only got a laptop that does every thing.</a:t>
            </a:r>
            <a:endParaRPr b="0" lang="en-US" sz="1800" spc="-1" strike="noStrike">
              <a:solidFill>
                <a:srgbClr val="ffffff"/>
              </a:solidFill>
              <a:latin typeface="Arial"/>
            </a:endParaRPr>
          </a:p>
        </p:txBody>
      </p:sp>
      <p:pic>
        <p:nvPicPr>
          <p:cNvPr id="266" name="Picture 4" descr="C:\Documents and Settings\Twlab\Local Settings\Temporary Internet Files\Content.IE5\E3BLC9D4\MPj04392560000[1].jpg"/>
          <p:cNvPicPr/>
          <p:nvPr/>
        </p:nvPicPr>
        <p:blipFill>
          <a:blip r:embed="rId3"/>
          <a:stretch/>
        </p:blipFill>
        <p:spPr>
          <a:xfrm>
            <a:off x="6019920" y="4359240"/>
            <a:ext cx="3124080" cy="2498760"/>
          </a:xfrm>
          <a:prstGeom prst="rect">
            <a:avLst/>
          </a:prstGeom>
          <a:ln w="0">
            <a:noFill/>
          </a:ln>
        </p:spPr>
      </p:pic>
      <p:pic>
        <p:nvPicPr>
          <p:cNvPr id="267" name="Picture 5" descr="C:\Documents and Settings\Twlab\Local Settings\Temporary Internet Files\Content.IE5\E3BLC9D4\MPj04392560000[1].jpg"/>
          <p:cNvPicPr/>
          <p:nvPr/>
        </p:nvPicPr>
        <p:blipFill>
          <a:blip r:embed="rId4"/>
          <a:stretch/>
        </p:blipFill>
        <p:spPr>
          <a:xfrm>
            <a:off x="0" y="4419720"/>
            <a:ext cx="3048120" cy="2438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Box 1"/>
          <p:cNvSpPr/>
          <p:nvPr/>
        </p:nvSpPr>
        <p:spPr>
          <a:xfrm>
            <a:off x="3352680" y="1371600"/>
            <a:ext cx="2514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df56"/>
                </a:solidFill>
                <a:latin typeface="Arial"/>
              </a:rPr>
              <a:t>Decision-Making</a:t>
            </a:r>
            <a:endParaRPr b="0" lang="en-US" sz="2400" spc="-1" strike="noStrike">
              <a:solidFill>
                <a:srgbClr val="ffffff"/>
              </a:solidFill>
              <a:latin typeface="Arial"/>
            </a:endParaRPr>
          </a:p>
        </p:txBody>
      </p:sp>
      <p:sp>
        <p:nvSpPr>
          <p:cNvPr id="269" name="TextBox 2"/>
          <p:cNvSpPr/>
          <p:nvPr/>
        </p:nvSpPr>
        <p:spPr>
          <a:xfrm>
            <a:off x="3276720" y="2057400"/>
            <a:ext cx="28954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most important thing for college I think was picking the right college. I made the decision because I was in a hurry for finishing the college picki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3T20:43:57Z</dcterms:created>
  <dc:creator>ITSUser</dc:creator>
  <dc:description/>
  <dc:language>en-US</dc:language>
  <cp:lastModifiedBy>ITSUser</cp:lastModifiedBy>
  <dcterms:modified xsi:type="dcterms:W3CDTF">2010-02-10T20:58:35Z</dcterms:modified>
  <cp:revision>7</cp:revision>
  <dc:subject/>
  <dc:title>Slide 1</dc:title>
</cp:coreProperties>
</file>